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F9D-18D4-4121-9B7C-9CCAB427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648-847D-441E-A876-1E708148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E3B-F0E5-4F0D-B0E5-715A60E4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64D-32E4-4679-8744-863CDC61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B66-4BC8-48C4-98ED-59BDB071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263-FFF9-486D-8E39-272E11C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EB2-8F4A-4EAB-9EB9-322BEF3F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B4C-EB68-4CEF-BF62-912D2E28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B0B-340D-4986-ABAE-002D88B0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5B6-BB4D-443D-9F9B-9AF88603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8D2-6633-4525-931B-71CA719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EF1-DE01-4EF4-89EA-45BDF79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B8A0-8548-4F93-A023-435D46CA51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ximum,minimum kiválaszt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áltozó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X : tömb (1..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 egés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axkiválasztás(N,X,MA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a X(MAX)&lt;X(I) akkor MAX:=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axkiválasztás(N,X,MAX,MAXER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=1,MAXERT:=X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a MAXERT &lt; X(I) akkor MAX:=I, MAXERT:=x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nimum kiválasztásnál nagyobb helyett kisebbet vizsgál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ásol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1: egy szöveg minden magánhangzóját cseréljük ki az e betű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gorit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: H_elemtípus </a:t>
            </a:r>
            <a:r>
              <a:rPr b="0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G_elem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tozó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X : tömb(1..N:H_elemtíp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Y : tömb(1..N:G_elemtíp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ásolás(N,X,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Y(i):=F(X(i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iválogat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2: adjuk meg egy osztály azon tanulóit, akik jeles átlagú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lgorit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: Elemtípus 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áltozó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X : tömb(1..N:Elemtí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B 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Y : tömb(1..N:Egés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válogatás(N,X,Y,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B: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T(X(i) akkor DB:=DB+1, Y(DB):=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ndezés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szerű cseré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 ill. max kiválasztáso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uboréko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-1 –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illesztése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-1 –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gyszerű cseré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1 től N-1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J=I+1 től N 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X(I) &gt; X(J) akkor csere(X(I),X(J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Min. ill. max. kiválasztásos rendezé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1 től N-1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:=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J=I+1 től N 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X(MIN) &gt; X(J) akkor MIN:=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sere(X(I),X(MIN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uboréko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I=N től 2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J=1 től I-1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X(J)&gt;X(J+1) akkor csere(X(J),X(J+1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Javított Rendezés(N,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:=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amíg I &gt;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S: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J=1 től I-1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X(J)&gt;X(J+1) akkor csere(X(J),X(J+1)),CS:=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:=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illesztése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:=I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amíg J&gt; 0 és X(J) &gt; X(J+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ere (X(J),X(J+1)), J:=J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8:33:48Z</dcterms:created>
  <dc:creator>Nagymáté Péter</dc:creator>
  <dc:description/>
  <dc:language>en-US</dc:language>
  <cp:lastModifiedBy>Nagymáté Péter</cp:lastModifiedBy>
  <dcterms:modified xsi:type="dcterms:W3CDTF">2004-04-22T09:06:51Z</dcterms:modified>
  <cp:revision>5</cp:revision>
  <dc:subject/>
  <dc:title>Bevezetés a programozásba</dc:title>
</cp:coreProperties>
</file>